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E65-3415-441E-A790-2782D6AB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82C-A606-4160-85AE-6D15E954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E93-B90D-4B34-A057-75F9FDA6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760-B934-4203-B9EF-6F4D3103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C45-CF71-437E-A507-0D7AE8B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5E2-A151-4527-AD54-A3667480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0BC-21EA-4E65-962B-13DE1FD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449-58B2-4A65-AF17-D7801C0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C58-3A39-4BE2-82D5-567B240C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D12-E076-44E3-B12C-3A5CA55B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147-81BF-430C-87F6-D764D1E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9B3-3802-4A47-8D44-4916B97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4C0C-CB02-4FD1-8D8D-C6BD66B3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science.howstuffworks.com/nuclear-bomb1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guide 3-5 da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666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diagram (in network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353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267080"/>
            <a:ext cx="3047760" cy="1447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"/>
          <p:cNvSpPr/>
          <p:nvPr/>
        </p:nvSpPr>
        <p:spPr>
          <a:xfrm>
            <a:off x="685800" y="2057400"/>
            <a:ext cx="19051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4"/>
          <p:cNvSpPr/>
          <p:nvPr/>
        </p:nvSpPr>
        <p:spPr>
          <a:xfrm>
            <a:off x="2895480" y="838080"/>
            <a:ext cx="175284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6705720" y="2514600"/>
            <a:ext cx="2057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5943600" y="4343400"/>
            <a:ext cx="220968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715000" y="1066680"/>
            <a:ext cx="22096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H="1" flipV="1">
            <a:off x="1828800" y="34290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2362320" y="2133720"/>
            <a:ext cx="1218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90920" y="2133720"/>
            <a:ext cx="34290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3809880" y="35812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3809880" y="5029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914400" y="4572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38080" y="44197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s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9144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124080" y="114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01992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6858000" y="2895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095880" y="45720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se-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2971800" y="4572000"/>
            <a:ext cx="3200400" cy="12952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04920" y="3429000"/>
            <a:ext cx="23619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57200" y="19051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971800" y="838080"/>
            <a:ext cx="2362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867280" y="990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6172200" y="3276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2361960" y="4419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 flipV="1">
            <a:off x="2209680" y="304776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419112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495680" y="213336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617220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276720" y="4648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ase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85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85800" y="2209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124080" y="11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360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248520" y="365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5 day 3 Nuclear chang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380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esher:  Physical and Chem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29528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:  same material, just a change of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2388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nd molecules remain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295280" y="2514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: new sub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600200" y="2895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break into atoms and rear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990720" y="3352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:  nuclear decomposition (breaking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676520" y="3733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is converted into energ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447920" y="4114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volves changes in nuclear structure, such as fission (splitting) of a nucleus or an atom, or fusion (combining) of neutrons and protons to form heavier atom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838080" y="1371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lt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eltingcandle.jpg"/>
          <p:cNvPicPr/>
          <p:nvPr/>
        </p:nvPicPr>
        <p:blipFill>
          <a:blip r:embed="rId1"/>
          <a:stretch/>
        </p:blipFill>
        <p:spPr>
          <a:xfrm>
            <a:off x="1143000" y="2057400"/>
            <a:ext cx="876240" cy="1181160"/>
          </a:xfrm>
          <a:prstGeom prst="rect">
            <a:avLst/>
          </a:prstGeom>
          <a:ln w="0">
            <a:noFill/>
          </a:ln>
        </p:spPr>
      </p:pic>
      <p:sp>
        <p:nvSpPr>
          <p:cNvPr id="91" name="Right Arrow 5"/>
          <p:cNvSpPr/>
          <p:nvPr/>
        </p:nvSpPr>
        <p:spPr>
          <a:xfrm rot="10800000">
            <a:off x="2285640" y="251424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286000" y="2819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(C) dr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19112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2362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:  change was shape only  C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6400800" y="29718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990720" y="3733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rn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candle.jpg"/>
          <p:cNvPicPr/>
          <p:nvPr/>
        </p:nvPicPr>
        <p:blipFill>
          <a:blip r:embed="rId2"/>
          <a:stretch/>
        </p:blipFill>
        <p:spPr>
          <a:xfrm>
            <a:off x="1143000" y="4648320"/>
            <a:ext cx="933480" cy="1238040"/>
          </a:xfrm>
          <a:prstGeom prst="rect">
            <a:avLst/>
          </a:prstGeom>
          <a:ln w="0">
            <a:noFill/>
          </a:ln>
        </p:spPr>
      </p:pic>
      <p:sp>
        <p:nvSpPr>
          <p:cNvPr id="98" name="Right Arrow 12"/>
          <p:cNvSpPr/>
          <p:nvPr/>
        </p:nvSpPr>
        <p:spPr>
          <a:xfrm rot="10800000">
            <a:off x="2285640" y="48765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3" descr="oxygen.jpg"/>
          <p:cNvPicPr/>
          <p:nvPr/>
        </p:nvPicPr>
        <p:blipFill>
          <a:blip r:embed="rId3"/>
          <a:stretch/>
        </p:blipFill>
        <p:spPr>
          <a:xfrm>
            <a:off x="762120" y="419112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oxygen.jpg"/>
          <p:cNvPicPr/>
          <p:nvPr/>
        </p:nvPicPr>
        <p:blipFill>
          <a:blip r:embed="rId4"/>
          <a:stretch/>
        </p:blipFill>
        <p:spPr>
          <a:xfrm>
            <a:off x="1371600" y="411480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oxygen.jpg"/>
          <p:cNvPicPr/>
          <p:nvPr/>
        </p:nvPicPr>
        <p:blipFill>
          <a:blip r:embed="rId5"/>
          <a:stretch/>
        </p:blipFill>
        <p:spPr>
          <a:xfrm>
            <a:off x="1981080" y="4191120"/>
            <a:ext cx="433440" cy="46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2666880" y="4191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004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267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419720" y="457200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: atoms rearran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new sub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457200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+ 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light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ight Arrow 21"/>
          <p:cNvSpPr/>
          <p:nvPr/>
        </p:nvSpPr>
        <p:spPr>
          <a:xfrm rot="10800000">
            <a:off x="2437920" y="43430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t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3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P:\ECP\ECP A\Trimester A\Note guides a\Unit 3\NaCl-poly.jpg"/>
          <p:cNvPicPr/>
          <p:nvPr/>
        </p:nvPicPr>
        <p:blipFill>
          <a:blip r:embed="rId1"/>
          <a:stretch/>
        </p:blipFill>
        <p:spPr>
          <a:xfrm>
            <a:off x="838080" y="1828800"/>
            <a:ext cx="1233720" cy="119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:\ECP\ECP A\Trimester A\Note guides a\Unit 3\water.jpg"/>
          <p:cNvPicPr/>
          <p:nvPr/>
        </p:nvPicPr>
        <p:blipFill>
          <a:blip r:embed="rId2"/>
          <a:stretch/>
        </p:blipFill>
        <p:spPr>
          <a:xfrm>
            <a:off x="2743200" y="1981080"/>
            <a:ext cx="82224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914400" y="28954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- +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 - -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67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Salt dissolves into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838080" y="3657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negar and 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143000" y="4038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egar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219320" y="441972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H   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Na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CaO (CO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267080" y="46483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: rearrange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7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8"/>
          <p:cNvSpPr/>
          <p:nvPr/>
        </p:nvSpPr>
        <p:spPr>
          <a:xfrm>
            <a:off x="39625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9"/>
          <p:cNvSpPr/>
          <p:nvPr/>
        </p:nvSpPr>
        <p:spPr>
          <a:xfrm>
            <a:off x="4267080" y="1981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lead still lead, jus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magnes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1"/>
          <p:cNvSpPr/>
          <p:nvPr/>
        </p:nvSpPr>
        <p:spPr>
          <a:xfrm>
            <a:off x="4343400" y="3276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4572000" y="3733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atoms bon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3"/>
          <p:cNvSpPr/>
          <p:nvPr/>
        </p:nvSpPr>
        <p:spPr>
          <a:xfrm>
            <a:off x="914400" y="4800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4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peroxide and Manganese Dioxid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5"/>
          <p:cNvSpPr/>
          <p:nvPr/>
        </p:nvSpPr>
        <p:spPr>
          <a:xfrm>
            <a:off x="838080" y="4724280"/>
            <a:ext cx="426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5029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: atoms rearrange to form something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u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un.jpg"/>
          <p:cNvPicPr/>
          <p:nvPr/>
        </p:nvPicPr>
        <p:blipFill>
          <a:blip r:embed="rId1"/>
          <a:stretch/>
        </p:blipFill>
        <p:spPr>
          <a:xfrm>
            <a:off x="1676520" y="1523880"/>
            <a:ext cx="1057320" cy="1038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1447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s of hydrogen come together 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uclear fusion rea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wo atoms of hydrogen are combined to create helium-4 an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20040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812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68580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clear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power plant.jpg"/>
          <p:cNvPicPr/>
          <p:nvPr/>
        </p:nvPicPr>
        <p:blipFill>
          <a:blip r:embed="rId3"/>
          <a:stretch/>
        </p:blipFill>
        <p:spPr>
          <a:xfrm>
            <a:off x="1295280" y="3809880"/>
            <a:ext cx="1600200" cy="1040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8"/>
          <p:cNvSpPr/>
          <p:nvPr/>
        </p:nvSpPr>
        <p:spPr>
          <a:xfrm>
            <a:off x="3276720" y="373392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plants depend on the heat that occurs during nuclear fi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hen one atom splits into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5812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809880" y="5029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26:07Z</dcterms:created>
  <dc:creator>Farwell Area Schools</dc:creator>
  <dc:description/>
  <dc:language>en-US</dc:language>
  <cp:lastModifiedBy>Farwell Area Schools</cp:lastModifiedBy>
  <dcterms:modified xsi:type="dcterms:W3CDTF">2008-10-16T19:00:00Z</dcterms:modified>
  <cp:revision>50</cp:revision>
  <dc:subject/>
  <dc:title>Note guide 8-5 day 2</dc:title>
</cp:coreProperties>
</file>